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901-F856-4052-843F-1D2F6EEE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9A8-6125-4371-8887-D99AE135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354-56B9-40B3-883B-EEBB5EC7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B39-AAE0-4BC6-8D38-4CBB6107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733-7CD0-45F8-934F-29933EEE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7EA-DEB2-4148-BDF2-449D8EE8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061-2093-4EAF-962A-0AE74762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A56-F018-4B10-8F4A-EDA43C37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D52-7812-4B5A-80D9-E8B715DC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5E1-B822-41E3-B364-815BF8BF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D8C-BF4C-4A81-A64F-6884783D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ECA9-C41F-4B8B-B9D3-00202991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0B08-966C-4DC4-A79A-CCFAF06D47C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1209600"/>
            <a:ext cx="73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Globalizáció</a:t>
            </a:r>
            <a:r>
              <a:rPr b="1" i="1" lang="en-US" sz="7200" spc="-1" strike="noStrike">
                <a:solidFill>
                  <a:srgbClr val="e6420f"/>
                </a:solidFill>
                <a:latin typeface="Book Antiqua"/>
              </a:rPr>
              <a:t>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382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4f22"/>
                </a:solidFill>
                <a:latin typeface="Book Antiqua"/>
              </a:rPr>
              <a:t>… </a:t>
            </a:r>
            <a:r>
              <a:rPr b="1" lang="hu-HU" sz="3600" spc="-1" strike="noStrike">
                <a:solidFill>
                  <a:srgbClr val="984f22"/>
                </a:solidFill>
                <a:latin typeface="Book Antiqua"/>
              </a:rPr>
              <a:t>komplex és ellentmondásos fogal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081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elméleti és mindennapi megközelítések csak abban egyeznek meg, hogy létezik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878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mi, ki, milyen mértékig és mekkora területen globalizálódik, az már vitatot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4804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globalizáció tehát több  értelmű kifejezé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nem egy globalizációról van szó, hanem </a:t>
            </a:r>
            <a:r>
              <a:rPr b="1" lang="hu-HU" sz="2600" spc="-1" strike="noStrike">
                <a:solidFill>
                  <a:srgbClr val="dc3c00"/>
                </a:solidFill>
                <a:latin typeface="Book Antiqua"/>
              </a:rPr>
              <a:t>globalizációk sorozatáról</a:t>
            </a:r>
            <a:r>
              <a:rPr b="1" lang="en-US" sz="2600" spc="-1" strike="noStrike">
                <a:solidFill>
                  <a:srgbClr val="dc3c00"/>
                </a:solidFill>
                <a:latin typeface="Book Antiqua"/>
              </a:rPr>
              <a:t>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6181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valami ami egyedi, átalakul valami általánosabbá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36680" y="1628640"/>
            <a:ext cx="3263760" cy="4602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4600" y="1392120"/>
            <a:ext cx="87850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Globalizációkritika: hatalom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1840" y="6084720"/>
            <a:ext cx="8912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7676d4"/>
                </a:solidFill>
                <a:latin typeface="Book Antiqua"/>
              </a:rPr>
              <a:t>és egyenlőtlenség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67360" y="2673360"/>
            <a:ext cx="4643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világ népességének 20 százaléka fogyasztja el a világ termelésének 80 százaléká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19440" y="2681280"/>
            <a:ext cx="4649760" cy="3278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206280" y="1311120"/>
            <a:ext cx="93819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6420f"/>
                </a:solidFill>
                <a:latin typeface="Book Antiqua"/>
              </a:rPr>
              <a:t>‘</a:t>
            </a: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megfordított gyarmatosítás</a:t>
            </a:r>
            <a:r>
              <a:rPr b="1" i="1" lang="en-US" sz="5400" spc="-1" strike="noStrike">
                <a:solidFill>
                  <a:srgbClr val="e6420f"/>
                </a:solidFill>
                <a:latin typeface="Book Antiqua"/>
              </a:rPr>
              <a:t>’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1840" y="6084720"/>
            <a:ext cx="8912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7676d4"/>
                </a:solidFill>
                <a:latin typeface="Book Antiqua"/>
              </a:rPr>
              <a:t>újfajta gyarmatosítás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3520" y="2610000"/>
            <a:ext cx="2851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gazdaság behatol a politikába és a magánszférá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22160" y="1344600"/>
            <a:ext cx="3834000" cy="5057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206280" y="930240"/>
            <a:ext cx="93819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6420f"/>
                </a:solidFill>
                <a:latin typeface="Book Antiqua"/>
              </a:rPr>
              <a:t>‘</a:t>
            </a: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megfordított gyarmatosítás</a:t>
            </a:r>
            <a:r>
              <a:rPr b="1" i="1" lang="en-US" sz="5400" spc="-1" strike="noStrike">
                <a:solidFill>
                  <a:srgbClr val="e6420f"/>
                </a:solidFill>
                <a:latin typeface="Book Antiqua"/>
              </a:rPr>
              <a:t>’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972560" y="4734000"/>
            <a:ext cx="108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371"/>
                </a:solidFill>
                <a:latin typeface="Book Antiqu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114560"/>
            <a:ext cx="755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e6420f"/>
                </a:solidFill>
                <a:latin typeface="Book Antiqua"/>
              </a:rPr>
              <a:t>Individualiz</a:t>
            </a: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áci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77880" y="5425920"/>
            <a:ext cx="761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ársadalmi státuszt a jólét-hozzáférés mellett a kockázat kerülés is meghatáro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88960" y="3073320"/>
            <a:ext cx="76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984f22"/>
                </a:solidFill>
                <a:latin typeface="Book Antiqua"/>
              </a:rPr>
              <a:t>Individualizáció ok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81240"/>
            <a:ext cx="108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371"/>
                </a:solidFill>
                <a:latin typeface="Book Antiqua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360" y="3745080"/>
            <a:ext cx="8607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öröklött státusz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jelentősége csökken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ársadalmak meritokratikusabbá válnak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ársadalmi egyenlőtlenségek az egyéni teljesítményen alapuln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2114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modernizáció az egyén szintjén: emancipáció, a stabilitás elvesztése, a kontroll új formá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9080" y="4697280"/>
            <a:ext cx="8854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magánéletben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: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új kapcsolat-formák válnak elfogadott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3223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radicionális normák és szerepek erejének csökkenésével válik lehetőv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1095480"/>
            <a:ext cx="755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e6420f"/>
                </a:solidFill>
                <a:latin typeface="Book Antiqua"/>
              </a:rPr>
              <a:t>Emancip</a:t>
            </a: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áci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464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emancipációt általában pozitív változásnak tekintjük, hiszen új lehetőségeket nyit meg a az egyén számára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9080" y="5224320"/>
            <a:ext cx="885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szabadidőben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: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szabad döntés kérdése les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080" y="4170240"/>
            <a:ext cx="885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foglalkoztatásban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: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jobb munkaerőpiaci esélyek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751360"/>
            <a:ext cx="91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984f22"/>
                </a:solidFill>
                <a:latin typeface="Book Antiqua"/>
              </a:rPr>
              <a:t>A státus egyénként meghatározottá vál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1366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ár, amit a több lehetőségért fizetni k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107640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Stabilitás elveszté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560" y="249696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normák meggyengülésével  társadalmi intézmények is meggyengülnek – több egyeztetésre van szükség a hétköznapokb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65112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emancipáció eredménye az egyszerű és stabil identitás elvesztése -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600" spc="-1" strike="noStrike">
                <a:solidFill>
                  <a:srgbClr val="e6420f"/>
                </a:solidFill>
                <a:latin typeface="Book Antiqua"/>
              </a:rPr>
              <a:t>‘</a:t>
            </a:r>
            <a:r>
              <a:rPr b="1" lang="hu-HU" sz="2600" spc="-1" strike="noStrike">
                <a:solidFill>
                  <a:srgbClr val="e6420f"/>
                </a:solidFill>
                <a:latin typeface="Book Antiqua"/>
              </a:rPr>
              <a:t>ki vagyok én</a:t>
            </a:r>
            <a:r>
              <a:rPr b="1" lang="en-US" sz="2600" spc="-1" strike="noStrike">
                <a:solidFill>
                  <a:srgbClr val="e6420f"/>
                </a:solidFill>
                <a:latin typeface="Book Antiqua"/>
              </a:rPr>
              <a:t>?’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– ezt a kérdést mind nehezebb megválaszolni, mert 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41120" y="4805280"/>
            <a:ext cx="9332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olyan kategóriák, mint osztály, kor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nemzetiség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‘</a:t>
            </a:r>
            <a:r>
              <a:rPr b="1" lang="hu-HU" sz="2600" spc="-1" strike="noStrike">
                <a:solidFill>
                  <a:srgbClr val="e6420f"/>
                </a:solidFill>
                <a:latin typeface="Book Antiqua"/>
              </a:rPr>
              <a:t>kiürülnek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’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560920"/>
            <a:ext cx="91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984f22"/>
                </a:solidFill>
                <a:latin typeface="Book Antiqua"/>
              </a:rPr>
              <a:t>Az identitást nem a közösségi, hanem a piaci viszonyok határozzák me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317840" y="3975120"/>
            <a:ext cx="4445280" cy="2400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3870360"/>
            <a:ext cx="108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371"/>
                </a:solidFill>
                <a:latin typeface="Book Antiqua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076400"/>
            <a:ext cx="81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Kontroll új formá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2017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‘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szakértői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rendszerek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’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gyakorolják racionális formáb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85444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hu-HU" sz="2600" spc="-1" strike="noStrike">
                <a:solidFill>
                  <a:srgbClr val="e6420f"/>
                </a:solidFill>
                <a:latin typeface="Book Antiqua"/>
              </a:rPr>
              <a:t>munkaerőpiac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rugalmassága folyamatos egyéni alkalmazkodást tesz szükségessé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mi a közös normákon és szolidaritáson alapuló társadalmi csoportok felbomlásához vez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035920" y="3495600"/>
            <a:ext cx="108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371"/>
                </a:solidFill>
                <a:latin typeface="Book Antiqu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48040" y="4135320"/>
            <a:ext cx="4899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hu-HU" sz="2600" spc="-1" strike="noStrike">
                <a:solidFill>
                  <a:srgbClr val="e6420f"/>
                </a:solidFill>
                <a:latin typeface="Book Antiqua"/>
              </a:rPr>
              <a:t> fogyasztói kultúra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meghatározza az egyének életstílusát, szabadidejét, világszemléletét a reklámok csábításán keresztü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36560" y="2743200"/>
            <a:ext cx="2784600" cy="3713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1076400"/>
            <a:ext cx="81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Kontroll új formá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2017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‘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szakértői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rendszerek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’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gyakorolják racionális formáb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4920" y="1316160"/>
            <a:ext cx="87850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Globalizációk az időb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80" y="1962000"/>
            <a:ext cx="9083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örténelem globalizációs hullámok sorozata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ezek pedig általában kiváltottak valamiféle ellenreakciót i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2600" y="3044880"/>
            <a:ext cx="8767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nagy világvallások és vezető nyelveik elterjedése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egységes civilizációk létrejöt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25760" y="4118040"/>
            <a:ext cx="241452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41200" y="4114800"/>
            <a:ext cx="3054600" cy="1984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019920" y="4103640"/>
            <a:ext cx="2819160" cy="1995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084720"/>
            <a:ext cx="9144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7676d4"/>
                </a:solidFill>
                <a:latin typeface="Book Antiqua"/>
              </a:rPr>
              <a:t>kultúra (vallás és nyelv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8200" y="3375000"/>
            <a:ext cx="3359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Nagy földrajzi felfedezések és az azokat követő gyarmatosí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78160" y="3381480"/>
            <a:ext cx="4241880" cy="307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1840" y="6084720"/>
            <a:ext cx="8912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7676d4"/>
                </a:solidFill>
                <a:latin typeface="Book Antiqua"/>
              </a:rPr>
              <a:t>kereskedelem, politik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480" y="1962000"/>
            <a:ext cx="9083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örténelem globalizációs hullámok sorozata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ezek pedig általában kiváltottak valamiféle ellenreakciót i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34920" y="1316160"/>
            <a:ext cx="87850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Globalizációk az időb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5080" y="3030480"/>
            <a:ext cx="33591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Book Antiq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Európai imperializmus, világméretű munkamegosztás, tömeges migráci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462480" y="3135240"/>
            <a:ext cx="5344920" cy="3049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1840" y="6084720"/>
            <a:ext cx="8912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7676d4"/>
                </a:solidFill>
                <a:latin typeface="Book Antiqua"/>
              </a:rPr>
              <a:t>gazdaság, migráci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480" y="1962000"/>
            <a:ext cx="9083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örténelem globalizációs hullámok sorozata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ezek pedig általában kiváltottak valamiféle ellenreakciót i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34920" y="1316160"/>
            <a:ext cx="87850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Globalizációk az időb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7440" y="2995560"/>
            <a:ext cx="3406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Hidegháború – a kétpólusú világrend kialakul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67360" y="3003480"/>
            <a:ext cx="4487760" cy="3119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1840" y="6084720"/>
            <a:ext cx="8912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7676d4"/>
                </a:solidFill>
                <a:latin typeface="Book Antiqua"/>
              </a:rPr>
              <a:t>politika, katonai hatal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480" y="1962000"/>
            <a:ext cx="9083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örténelem globalizációs hullámok sorozata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ezek pedig általában kiváltottak valamiféle ellenreakciót i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34920" y="1316160"/>
            <a:ext cx="87850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Globalizációk az időb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31920" y="3138480"/>
            <a:ext cx="3170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Információs hálózatok, globalizálódó kultú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368960" y="3222720"/>
            <a:ext cx="3904920" cy="2838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1840" y="6084720"/>
            <a:ext cx="87850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7676d4"/>
                </a:solidFill>
                <a:latin typeface="Book Antiqua"/>
              </a:rPr>
              <a:t>pénzügyek</a:t>
            </a:r>
            <a:r>
              <a:rPr b="1" i="1" lang="en-US" sz="5400" spc="-1" strike="noStrike">
                <a:solidFill>
                  <a:srgbClr val="7676d4"/>
                </a:solidFill>
                <a:latin typeface="Book Antiqua"/>
              </a:rPr>
              <a:t>, </a:t>
            </a:r>
            <a:r>
              <a:rPr b="1" i="1" lang="hu-HU" sz="5400" spc="-1" strike="noStrike">
                <a:solidFill>
                  <a:srgbClr val="7676d4"/>
                </a:solidFill>
                <a:latin typeface="Book Antiqua"/>
              </a:rPr>
              <a:t>kultú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480" y="1962000"/>
            <a:ext cx="9083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örténelem globalizációs hullámok sorozata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ezek pedig általában kiváltottak valamiféle ellenreakciót i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34920" y="1316160"/>
            <a:ext cx="87850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Globalizációk az időb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774880"/>
            <a:ext cx="9144000" cy="2301840"/>
          </a:xfrm>
          <a:prstGeom prst="rect">
            <a:avLst/>
          </a:prstGeom>
          <a:solidFill>
            <a:srgbClr val="e6420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3520" y="2832120"/>
            <a:ext cx="8547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társadalmi folyamat, melynek eredményeként „mind több ember él olyan körülmények között, amikor a helyi viszonyoktól független intézmények – a helyiek életét globális gazdasági és társadalmi viszonyoktól függővé téve - határozzák meg a mindennapi életet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”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50000" y="873000"/>
            <a:ext cx="29653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6420f"/>
                </a:solidFill>
                <a:latin typeface="Book Antiqua"/>
              </a:rPr>
              <a:t>Gidd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3520" y="5560920"/>
            <a:ext cx="8547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Giddens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elemzésében elsősorban a globalizáció utolsó hullámára koncentrá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3520" y="1884240"/>
            <a:ext cx="854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g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lobaliz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áció szerinte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0960" y="3787920"/>
            <a:ext cx="821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e6420f"/>
                </a:solidFill>
                <a:latin typeface="Book Antiqua"/>
              </a:rPr>
              <a:t>Katonai erő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lehetővé teszi a diktatúrák és törzsi társadalmak legyőzésé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34920" y="1430280"/>
            <a:ext cx="87850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6420f"/>
                </a:solidFill>
                <a:latin typeface="Book Antiqua"/>
              </a:rPr>
              <a:t>‘</a:t>
            </a: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A modernitás intézményei</a:t>
            </a:r>
            <a:r>
              <a:rPr b="1" i="1" lang="en-US" sz="5400" spc="-1" strike="noStrike">
                <a:solidFill>
                  <a:srgbClr val="e6420f"/>
                </a:solidFill>
                <a:latin typeface="Book Antiqua"/>
              </a:rPr>
              <a:t>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2943360"/>
            <a:ext cx="8969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e6420f"/>
                </a:solidFill>
                <a:latin typeface="Book Antiqua"/>
              </a:rPr>
              <a:t>Politikai hatalom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gazdaság és a magánélet befolyásolásának képessé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4600" y="4630680"/>
            <a:ext cx="8969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e6420f"/>
                </a:solidFill>
                <a:latin typeface="Book Antiqua"/>
              </a:rPr>
              <a:t>Kapitalizmu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mint rendszer a tradicionális gazdaságnál hatékonyab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800" y="5473800"/>
            <a:ext cx="8202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420f"/>
                </a:solidFill>
                <a:latin typeface="Book Antiqua"/>
              </a:rPr>
              <a:t>I</a:t>
            </a:r>
            <a:r>
              <a:rPr b="0" lang="hu-HU" sz="2600" spc="-1" strike="noStrike">
                <a:solidFill>
                  <a:srgbClr val="e6420f"/>
                </a:solidFill>
                <a:latin typeface="Book Antiqua"/>
              </a:rPr>
              <a:t>parosodá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kapitalista termelés általánossá válást jele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7080" y="20876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dják a globalizáció alapját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0960" y="3787920"/>
            <a:ext cx="821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e6420f"/>
                </a:solidFill>
                <a:latin typeface="Book Antiqua"/>
              </a:rPr>
              <a:t>Katonai er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34920" y="1335240"/>
            <a:ext cx="87850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6420f"/>
                </a:solidFill>
                <a:latin typeface="Book Antiqua"/>
              </a:rPr>
              <a:t>‘</a:t>
            </a:r>
            <a:r>
              <a:rPr b="1" i="1" lang="hu-HU" sz="5400" spc="-1" strike="noStrike">
                <a:solidFill>
                  <a:srgbClr val="e6420f"/>
                </a:solidFill>
                <a:latin typeface="Book Antiqua"/>
              </a:rPr>
              <a:t>A modernitás intézményei</a:t>
            </a:r>
            <a:r>
              <a:rPr b="1" i="1" lang="en-US" sz="5400" spc="-1" strike="noStrike">
                <a:solidFill>
                  <a:srgbClr val="e6420f"/>
                </a:solidFill>
                <a:latin typeface="Book Antiqua"/>
              </a:rPr>
              <a:t>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2943360"/>
            <a:ext cx="896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e6420f"/>
                </a:solidFill>
                <a:latin typeface="Book Antiqua"/>
              </a:rPr>
              <a:t>Politikai hatal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4600" y="4630680"/>
            <a:ext cx="896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e6420f"/>
                </a:solidFill>
                <a:latin typeface="Book Antiqua"/>
              </a:rPr>
              <a:t>K</a:t>
            </a:r>
            <a:r>
              <a:rPr b="0" lang="en-US" sz="2600" spc="-1" strike="noStrike">
                <a:solidFill>
                  <a:srgbClr val="e6420f"/>
                </a:solidFill>
                <a:latin typeface="Book Antiqua"/>
              </a:rPr>
              <a:t>apitali</a:t>
            </a:r>
            <a:r>
              <a:rPr b="0" lang="hu-HU" sz="2600" spc="-1" strike="noStrike">
                <a:solidFill>
                  <a:srgbClr val="e6420f"/>
                </a:solidFill>
                <a:latin typeface="Book Antiqua"/>
              </a:rPr>
              <a:t>z</a:t>
            </a:r>
            <a:r>
              <a:rPr b="0" lang="en-US" sz="2600" spc="-1" strike="noStrike">
                <a:solidFill>
                  <a:srgbClr val="e6420f"/>
                </a:solidFill>
                <a:latin typeface="Book Antiqua"/>
              </a:rPr>
              <a:t>m</a:t>
            </a:r>
            <a:r>
              <a:rPr b="0" lang="hu-HU" sz="2600" spc="-1" strike="noStrike">
                <a:solidFill>
                  <a:srgbClr val="e6420f"/>
                </a:solidFill>
                <a:latin typeface="Book Antiqua"/>
              </a:rPr>
              <a:t>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6800" y="5473800"/>
            <a:ext cx="820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420f"/>
                </a:solidFill>
                <a:latin typeface="Book Antiqua"/>
              </a:rPr>
              <a:t>I</a:t>
            </a:r>
            <a:r>
              <a:rPr b="0" lang="hu-HU" sz="2600" spc="-1" strike="noStrike">
                <a:solidFill>
                  <a:srgbClr val="e6420f"/>
                </a:solidFill>
                <a:latin typeface="Book Antiqua"/>
              </a:rPr>
              <a:t>parosod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7080" y="20876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dják a globalizáció alapját i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3370320"/>
            <a:ext cx="54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Book Antiqua"/>
              </a:rPr>
              <a:t>Globalizáció Giddens szerint a modernizációs folyamatok </a:t>
            </a:r>
            <a:r>
              <a:rPr b="0" lang="hu-HU" sz="3600" spc="-1" strike="noStrike" u="sng">
                <a:solidFill>
                  <a:srgbClr val="000000"/>
                </a:solidFill>
                <a:uFillTx/>
                <a:latin typeface="Book Antiqua"/>
              </a:rPr>
              <a:t>nem szándékolt</a:t>
            </a:r>
            <a:r>
              <a:rPr b="0" lang="hu-HU" sz="3600" spc="-1" strike="noStrike">
                <a:solidFill>
                  <a:srgbClr val="000000"/>
                </a:solidFill>
                <a:latin typeface="Book Antiqua"/>
              </a:rPr>
              <a:t> következmén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92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Globalizáció(k) és individualiz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07:28:25Z</dcterms:created>
  <dc:creator>Mayer Péter</dc:creator>
  <dc:description/>
  <dc:language>en-US</dc:language>
  <cp:lastModifiedBy>Mayer Péter</cp:lastModifiedBy>
  <dcterms:modified xsi:type="dcterms:W3CDTF">2007-03-30T06:02:12Z</dcterms:modified>
  <cp:revision>479</cp:revision>
  <dc:subject/>
  <dc:title>1. dia</dc:title>
</cp:coreProperties>
</file>